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12.png" ContentType="image/png"/>
  <Override PartName="/ppt/media/image22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34.jpeg" ContentType="image/jpeg"/>
  <Override PartName="/ppt/media/image8.jpeg" ContentType="image/jpeg"/>
  <Override PartName="/ppt/media/image35.jpeg" ContentType="image/jpeg"/>
  <Override PartName="/ppt/media/image7.jpeg" ContentType="image/jpeg"/>
  <Override PartName="/ppt/media/image28.png" ContentType="image/png"/>
  <Override PartName="/ppt/media/image27.jpeg" ContentType="image/jpeg"/>
  <Override PartName="/ppt/media/image18.png" ContentType="image/png"/>
  <Override PartName="/ppt/media/image6.jpeg" ContentType="image/jpeg"/>
  <Override PartName="/ppt/media/image33.jpeg" ContentType="image/jpeg"/>
  <Override PartName="/ppt/media/image9.jpeg" ContentType="image/jpeg"/>
  <Override PartName="/ppt/media/image11.jpeg" ContentType="image/jpeg"/>
  <Override PartName="/ppt/media/image31.jpeg" ContentType="image/jpeg"/>
  <Override PartName="/ppt/media/image30.gif" ContentType="image/gif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A827-0355-4ADE-9DA7-8B40363FB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74E9-67AB-4784-893C-0B9AD3C07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1675-0278-446C-998A-E2D058BA8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9600-E5BD-4487-8DB5-DACE92FC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5D16-251D-4816-B9B1-1DC4F3FA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BC8F-D077-4199-90BD-5C60E855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BC05-73DA-48D0-A85F-961D3D7B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2B73-84D8-498D-80F6-6F34702A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D9F1-7DBE-43AE-ADEF-6360F9CE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2794-4BF3-447C-A1F2-914F79A3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2EE9-70EE-444C-BAE0-D23E3CB3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573E-0CB4-4EA8-AFB0-A553900B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15BE-0888-4F33-BB59-7926F675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C099-C875-4343-9D09-945FB7FA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7F9D-8FB2-45B9-84C7-27172717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B18C-A65C-4E2C-A7E8-1A3456AD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E3D9-FFC6-4DC8-9F5B-9850AA91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123F-73D0-480A-9490-0469E9E5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4858-B879-4936-8E91-AB9E301F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E8C2-AA60-4D18-8FC3-7E1B1A91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CF270-8820-4C36-B518-718BB1C3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A45E7-74D2-48CF-9D3C-A3FA14AD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E3DB0-0745-4BEF-A34F-51B97214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B4CFD-85D6-46D1-9841-9AFCF877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90701-4B2B-44AF-8A71-1731027A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02FC-5DCD-479A-9DE9-290634B9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50244-4C5E-4488-9170-BE8F848D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4C6B7-C977-430A-A206-60A755F5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E4FA8-BD75-4777-97DD-BC85789B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F6369-D891-40E8-AA40-B546CFF4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0F488-40D2-4674-BB82-92CFE769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6313F-B50F-44F8-9ABD-BDA01DDA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BEB77-BE09-48A4-94B0-93888A16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CC38E-BCD0-4A64-8EE0-61E70555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CDC95-02AA-41AD-ACD5-9D266DE8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22A9F-F624-4829-AE4F-D58CBD4D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7EAF-3E96-4FD2-8519-6FA2EDA6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ACD20-0ED5-473E-8858-636E1614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8FB93-8BA3-43D9-811C-83E9FB99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FD472-59E7-4922-9ED8-F37472D6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005B4-201F-4E2B-951A-57CE4D1E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46EFB-9661-4677-8AD1-F7413934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564B4-F818-4708-967C-844E2EF6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6A606-AC10-44BF-BCF4-6587EC08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404D4-9B42-4C54-9B4A-4E9D3BC9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F4C30-5FCF-454E-8DFC-2B9DE25C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775C-40B5-4712-866C-F2A099F2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012B-217F-4900-BEF0-F4A3676B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2411-B136-4A0C-954F-E040CAD9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978D-AA06-47A4-A9D2-79218FFB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06ED-8E52-42D2-8DED-20D807BB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10EB-253F-4332-94EE-7FEE379E6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8674-C99E-46DC-B55B-779D09D7F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9920-CF85-4E14-8945-35287EF94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EA0B-94C2-4792-B35D-0C59A0D4D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datatriage.com/blog/wp-content/uploads/2009/10/computer_crime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hormel.com/" TargetMode="External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Lottery fraud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42560" y="4419720"/>
            <a:ext cx="7543800" cy="22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ud asks for information about your bank account in order to pay you money that yo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won 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otter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for which 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never appli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joehachem2_wideweb__470x342,2"/>
          <p:cNvPicPr/>
          <p:nvPr/>
        </p:nvPicPr>
        <p:blipFill>
          <a:blip r:embed="rId1"/>
          <a:stretch/>
        </p:blipFill>
        <p:spPr>
          <a:xfrm>
            <a:off x="1600200" y="1066680"/>
            <a:ext cx="6048360" cy="33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Identity theft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14720" y="914040"/>
            <a:ext cx="369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t comes in form of a private message from one of your friends that has link to another web page identical to facebook loggin page and asks you to type in again your e-mail and pass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facebook_362931801"/>
          <p:cNvPicPr/>
          <p:nvPr/>
        </p:nvPicPr>
        <p:blipFill>
          <a:blip r:embed="rId1"/>
          <a:stretch/>
        </p:blipFill>
        <p:spPr>
          <a:xfrm>
            <a:off x="971640" y="2060640"/>
            <a:ext cx="3887640" cy="39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Credit card frau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14720" y="1066680"/>
            <a:ext cx="369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app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ing a false web page that is link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-mai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 to potential victi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are asked to enter their credit card number on a false web pag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scam pa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if-you-were-a-credit-card"/>
          <p:cNvPicPr/>
          <p:nvPr/>
        </p:nvPicPr>
        <p:blipFill>
          <a:blip r:embed="rId1"/>
          <a:stretch/>
        </p:blipFill>
        <p:spPr>
          <a:xfrm>
            <a:off x="1066680" y="2060640"/>
            <a:ext cx="379260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Telephone bill fraud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537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er downloads a certain application, h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et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jan horse virus infiltrated in h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 her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rojan horse virus enables the fraud to abu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’s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omputer, phone,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8" descr="00434-computer-telephone"/>
          <p:cNvPicPr/>
          <p:nvPr/>
        </p:nvPicPr>
        <p:blipFill>
          <a:blip r:embed="rId1"/>
          <a:stretch/>
        </p:blipFill>
        <p:spPr>
          <a:xfrm>
            <a:off x="5105520" y="2057400"/>
            <a:ext cx="369576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3" descr="websecg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50292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Financial los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a consequence of Internet cr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hacker"/>
          <p:cNvPicPr/>
          <p:nvPr/>
        </p:nvPicPr>
        <p:blipFill>
          <a:blip r:embed="rId1"/>
          <a:stretch/>
        </p:blipFill>
        <p:spPr>
          <a:xfrm>
            <a:off x="228600" y="914400"/>
            <a:ext cx="85345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w technolog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technologies enable us to do almost  everything we want while sitting at our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so many useful things you can do online, for example: pay bills, services, take part in online auctions, buy goods, et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people are not aware of the bad side of online ea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Cr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iminals are using someone’s sensitive information for shopping online, transferring money from stolen accounts and many other things in order to get financial use of the victi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re 1"/>
          <p:cNvSpPr/>
          <p:nvPr/>
        </p:nvSpPr>
        <p:spPr>
          <a:xfrm>
            <a:off x="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identity-theft-piechart"/>
          <p:cNvPicPr/>
          <p:nvPr/>
        </p:nvPicPr>
        <p:blipFill>
          <a:blip r:embed="rId1"/>
          <a:stretch/>
        </p:blipFill>
        <p:spPr>
          <a:xfrm>
            <a:off x="2819520" y="2209680"/>
            <a:ext cx="365760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Cr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0666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mon way of getting information abo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redit card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k accounts, and other sensitive information is by using “sc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s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m page is false website or page of internet service that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iminals want to get 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identity-theft-piechart"/>
          <p:cNvPicPr/>
          <p:nvPr/>
        </p:nvPicPr>
        <p:blipFill>
          <a:blip r:embed="rId1"/>
          <a:stretch/>
        </p:blipFill>
        <p:spPr>
          <a:xfrm>
            <a:off x="3733920" y="2590920"/>
            <a:ext cx="54100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(www.missingchildren.com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7850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 out of 5 children received a sexual offer for money or approach over the Internet in a one-year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child clipart toy"/>
          <p:cNvPicPr/>
          <p:nvPr/>
        </p:nvPicPr>
        <p:blipFill>
          <a:blip r:embed="rId1"/>
          <a:stretch/>
        </p:blipFill>
        <p:spPr>
          <a:xfrm>
            <a:off x="1523880" y="3733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child clipart girl"/>
          <p:cNvPicPr/>
          <p:nvPr/>
        </p:nvPicPr>
        <p:blipFill>
          <a:blip r:embed="rId2"/>
          <a:stretch/>
        </p:blipFill>
        <p:spPr>
          <a:xfrm>
            <a:off x="7772400" y="1295280"/>
            <a:ext cx="1181160" cy="1905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child clipart boy"/>
          <p:cNvPicPr/>
          <p:nvPr/>
        </p:nvPicPr>
        <p:blipFill>
          <a:blip r:embed="rId3"/>
          <a:stretch/>
        </p:blipFill>
        <p:spPr>
          <a:xfrm>
            <a:off x="3429000" y="3962520"/>
            <a:ext cx="1581120" cy="1904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child clipart glasses reading"/>
          <p:cNvPicPr/>
          <p:nvPr/>
        </p:nvPicPr>
        <p:blipFill>
          <a:blip r:embed="rId4"/>
          <a:stretch/>
        </p:blipFill>
        <p:spPr>
          <a:xfrm>
            <a:off x="5105520" y="4495680"/>
            <a:ext cx="1371600" cy="1905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4" descr="child clipart boy"/>
          <p:cNvPicPr/>
          <p:nvPr/>
        </p:nvPicPr>
        <p:blipFill>
          <a:blip r:embed="rId5"/>
          <a:stretch/>
        </p:blipFill>
        <p:spPr>
          <a:xfrm>
            <a:off x="6477120" y="3200400"/>
            <a:ext cx="1714320" cy="1905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6" descr="child clipart birthday"/>
          <p:cNvPicPr/>
          <p:nvPr/>
        </p:nvPicPr>
        <p:blipFill>
          <a:blip r:embed="rId6"/>
          <a:stretch/>
        </p:blipFill>
        <p:spPr>
          <a:xfrm>
            <a:off x="7620120" y="4952880"/>
            <a:ext cx="1276200" cy="1905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8" descr="child clipart playing"/>
          <p:cNvPicPr/>
          <p:nvPr/>
        </p:nvPicPr>
        <p:blipFill>
          <a:blip r:embed="rId7"/>
          <a:stretch/>
        </p:blipFill>
        <p:spPr>
          <a:xfrm>
            <a:off x="228600" y="4952880"/>
            <a:ext cx="157176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Cr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1600200"/>
          <a:ext cx="8229600" cy="307512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дна недељ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матска це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Ци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ођење у основе стручног енглеског језика из области информационих систем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матска једи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Cr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научити појмове и термине из области компјутерског криминала на енглеском јези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New Wild, Wild West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51609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yber criminals than cyber c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minals feel “safe” committing crimes from the privacy of their own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506560" y="2285640"/>
            <a:ext cx="317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d west wanted po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1" descr="wildbunchposterlg"/>
          <p:cNvPicPr/>
          <p:nvPr/>
        </p:nvPicPr>
        <p:blipFill>
          <a:blip r:embed="rId1"/>
          <a:stretch/>
        </p:blipFill>
        <p:spPr>
          <a:xfrm>
            <a:off x="5257800" y="1523880"/>
            <a:ext cx="366696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ckers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here are three major classes of new criminal activities in today’s cyberspace performed by computer criminals, or so-called hack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computer_crime"/>
          <p:cNvPicPr/>
          <p:nvPr/>
        </p:nvPicPr>
        <p:blipFill>
          <a:blip r:embed="rId1"/>
          <a:stretch/>
        </p:blipFill>
        <p:spPr>
          <a:xfrm>
            <a:off x="3124080" y="3657600"/>
            <a:ext cx="358164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Unauthorized use of a comput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477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ealing a username and a passw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ccessing a victim's computer via the Internet through a backdo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506560" y="2285640"/>
            <a:ext cx="317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7" descr="Views: 2,665&#10;Downloads: 784&#10;Added: 11.11.05&#10;1280x960 (195.3 KB)"/>
          <p:cNvPicPr/>
          <p:nvPr/>
        </p:nvPicPr>
        <p:blipFill>
          <a:blip r:embed="rId1"/>
          <a:stretch/>
        </p:blipFill>
        <p:spPr>
          <a:xfrm>
            <a:off x="5638680" y="1600200"/>
            <a:ext cx="304812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Unauthorized use of a compu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Creating or releasing of a malicious computer program (e.g. a computer virus, a worm, a Trojan horse etc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506560" y="2285640"/>
            <a:ext cx="317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civil-unions"/>
          <p:cNvPicPr/>
          <p:nvPr/>
        </p:nvPicPr>
        <p:blipFill>
          <a:blip r:embed="rId1"/>
          <a:stretch/>
        </p:blipFill>
        <p:spPr>
          <a:xfrm>
            <a:off x="5105520" y="1600200"/>
            <a:ext cx="35812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Cr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4757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mpu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rime is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ot different from the ones commited without the use of comput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mputer is only a tool that a criminal uses to commit a cr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3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1523880"/>
            <a:ext cx="335304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Cr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46479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 computer, a scann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graphics software and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high-quality color las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o forge and counterfei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7" descr="badge"/>
          <p:cNvPicPr/>
          <p:nvPr/>
        </p:nvPicPr>
        <p:blipFill>
          <a:blip r:embed="rId1"/>
          <a:stretch/>
        </p:blipFill>
        <p:spPr>
          <a:xfrm>
            <a:off x="5257800" y="1523880"/>
            <a:ext cx="3429000" cy="4419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crimescenetape"/>
          <p:cNvPicPr/>
          <p:nvPr/>
        </p:nvPicPr>
        <p:blipFill>
          <a:blip r:embed="rId2"/>
          <a:stretch/>
        </p:blipFill>
        <p:spPr>
          <a:xfrm>
            <a:off x="5029200" y="1752480"/>
            <a:ext cx="3505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uter as a target of a cri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crimescenecomputer"/>
          <p:cNvPicPr/>
          <p:nvPr/>
        </p:nvPicPr>
        <p:blipFill>
          <a:blip r:embed="rId1"/>
          <a:stretch/>
        </p:blipFill>
        <p:spPr>
          <a:xfrm>
            <a:off x="5410080" y="1828800"/>
            <a:ext cx="3429000" cy="37339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077320" y="2819160"/>
            <a:ext cx="3179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0880" y="1981080"/>
            <a:ext cx="449604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uses/W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piracy and Ha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-Fi High Jac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5638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m accounts for 9 out of every 10 emails in the United States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 do not object to the use of this slang term to describe UCE (unsolicited commercial email), although we do object to the use of the word “spam” as a trademark and the use of our product image in association with that term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rme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GoodGone3_animation"/>
          <p:cNvPicPr/>
          <p:nvPr/>
        </p:nvPicPr>
        <p:blipFill>
          <a:blip r:embed="rId2"/>
          <a:stretch/>
        </p:blipFill>
        <p:spPr>
          <a:xfrm>
            <a:off x="5987880" y="2548080"/>
            <a:ext cx="2459160" cy="30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am is Hostil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pay for Spam, not Spam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 costs are paid by email recip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m can be danger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click on the opt-out lin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take you to hostile web site where mouse-over downloads an .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s spammers they found a working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on’t take you off the list any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should you do?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 it out whenever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filters up to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get it, just delete the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j0309272"/>
          <p:cNvPicPr/>
          <p:nvPr/>
        </p:nvPicPr>
        <p:blipFill>
          <a:blip r:embed="rId1"/>
          <a:stretch/>
        </p:blipFill>
        <p:spPr>
          <a:xfrm>
            <a:off x="2590920" y="3276720"/>
            <a:ext cx="4419360" cy="17524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651040" y="3618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Cr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04920" y="1676520"/>
          <a:ext cx="8534160" cy="14875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Cr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научити појмове и термине из области компјутерског криминала на енглеском јези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Text Box 18"/>
          <p:cNvSpPr/>
          <p:nvPr/>
        </p:nvSpPr>
        <p:spPr>
          <a:xfrm>
            <a:off x="304920" y="3790800"/>
            <a:ext cx="876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Предавање и дискус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ruse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5388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that piggybacks on other software and runs when you run something el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ro in Excel,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ted through sharing programs on bulletin bo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ing around di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e.com file in your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virus"/>
          <p:cNvPicPr/>
          <p:nvPr/>
        </p:nvPicPr>
        <p:blipFill>
          <a:blip r:embed="rId1"/>
          <a:stretch/>
        </p:blipFill>
        <p:spPr>
          <a:xfrm>
            <a:off x="5562720" y="1295280"/>
            <a:ext cx="3200400" cy="5181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m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5105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that u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networks to fi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holes to get in to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in Microsoft OS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4864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334120" y="990720"/>
            <a:ext cx="34066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ckers are Every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52358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al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Espion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ty 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ing data for f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t of bored 16 year olds late at 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506560" y="2285640"/>
            <a:ext cx="317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0" descr="hackers"/>
          <p:cNvPicPr/>
          <p:nvPr/>
        </p:nvPicPr>
        <p:blipFill>
          <a:blip r:embed="rId1"/>
          <a:stretch/>
        </p:blipFill>
        <p:spPr>
          <a:xfrm>
            <a:off x="5562720" y="228600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Cr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930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ing computers into zomb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mit cr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down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 p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ass some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ical/white hat hackers exist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break into networks to prevent cr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9" descr="RE1Zombie"/>
          <p:cNvPicPr/>
          <p:nvPr/>
        </p:nvPicPr>
        <p:blipFill>
          <a:blip r:embed="rId1"/>
          <a:stretch/>
        </p:blipFill>
        <p:spPr>
          <a:xfrm>
            <a:off x="5410080" y="1447920"/>
            <a:ext cx="32767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to do? (1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nti-virus software and firewalls - keep them up to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your operating system up to date with critical security updates and p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't open emails or attachments from unknown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to do? (2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hard-to-guess passwords. Don’t use words found in a dictionary.  Remember that password cracking tools ex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-up your computer data on disks or CDs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to do? (3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't share access to your computers with strang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have a wi-fi network, password protect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to do? (4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nnect from the Internet when not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evaluate your security on a regular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r employees and family members know this info to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nswer the following questions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fine computer/ cyber cr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criminal activities can be performed while using a compu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are hac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fine sp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is the difference between computer viruses and wor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types of Internet fraud do you k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can we protect ourselves from cyber crimin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216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computer cr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4488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crim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s comm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d in order to gain personal profit or making material or immaterial damage to another per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ternet, as the global m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of communication, enables thieves 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ttem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ommit a frau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more 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 1000 tim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ay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2" descr="130"/>
          <p:cNvPicPr/>
          <p:nvPr/>
        </p:nvPicPr>
        <p:blipFill>
          <a:blip r:embed="rId1"/>
          <a:stretch/>
        </p:blipFill>
        <p:spPr>
          <a:xfrm>
            <a:off x="2666880" y="3581280"/>
            <a:ext cx="395928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Harassment in cyberspac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4" descr="eln-badge"/>
          <p:cNvPicPr/>
          <p:nvPr/>
        </p:nvPicPr>
        <p:blipFill>
          <a:blip r:embed="rId1"/>
          <a:stretch/>
        </p:blipFill>
        <p:spPr>
          <a:xfrm>
            <a:off x="838080" y="990720"/>
            <a:ext cx="7772400" cy="58672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7"/>
          <p:cNvSpPr/>
          <p:nvPr/>
        </p:nvSpPr>
        <p:spPr>
          <a:xfrm>
            <a:off x="4591080" y="58672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Types of internet fraud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4379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hain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yramid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ney trans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ottery frau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ty th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card frau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 bill frau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2" descr="internet-prevare-300"/>
          <p:cNvPicPr/>
          <p:nvPr/>
        </p:nvPicPr>
        <p:blipFill>
          <a:blip r:embed="rId1"/>
          <a:stretch/>
        </p:blipFill>
        <p:spPr>
          <a:xfrm>
            <a:off x="5334120" y="2133720"/>
            <a:ext cx="285732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in let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724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tter that contains encrypted information which enables the sender to abuse your personal data and the data of all those who had read that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322"/>
          <p:cNvPicPr/>
          <p:nvPr/>
        </p:nvPicPr>
        <p:blipFill>
          <a:blip r:embed="rId1"/>
          <a:stretch/>
        </p:blipFill>
        <p:spPr>
          <a:xfrm>
            <a:off x="5151600" y="1981080"/>
            <a:ext cx="32209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yramid sche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4193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ctim” is promised a certain payment depending on a number of people that he manages to involve in the pyram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pyramid_chain"/>
          <p:cNvPicPr/>
          <p:nvPr/>
        </p:nvPicPr>
        <p:blipFill>
          <a:blip r:embed="rId1"/>
          <a:stretch/>
        </p:blipFill>
        <p:spPr>
          <a:xfrm>
            <a:off x="5076720" y="2133720"/>
            <a:ext cx="374328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Money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oney transfer for charity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raud asks confidential information about your bank account for money transfer to bank account of some charity organization for com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Fraud when buying a car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fraud asks for advance when buying a car from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entine” frau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xploitation of lonely people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ud asks for money in order to come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ctim’s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Korisnik</cp:lastModifiedBy>
  <dcterms:modified xsi:type="dcterms:W3CDTF">2010-05-07T11:10:02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